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32588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732000" cy="98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180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81456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-180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381456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7BB4908-60D8-4AA4-A1F6-96870ABD3F35}" type="slidenum"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Img"/>
          </p:nvPr>
        </p:nvSpPr>
        <p:spPr>
          <a:xfrm>
            <a:off x="1063800" y="860400"/>
            <a:ext cx="4603680" cy="34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ink da precise indicazioni ad app_002.d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er costruire una scala di Osgood è necessari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dividuare l’oggetto sul quale si vogliono raccogliere atteggiamenti o reazioni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elezionare le coppie di aggettivi adatti a valutare l’oggetto. Si devono scegliere aggettivi che possono essere applicati ai concetti prescelti e riferiti a tre dimensioni fondamentali: la valutazione (correlata alle coppie buono/cattivo; positivo/negativo; gentile/sgarbato); la potenza (forte/debole; leggero/pesante; aggressivo/pacifico) e l’attività (veloce/lento; attivo/passivo; giovane/vecchio) o almeno ad una di queste dimensioni. Per ogni scala si stabilisce un numero di punti corrispondenti al nuemro di intervalli prefissato (generalmente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crivere la parola o la frase che designa l’oggetto della valutazione e farla seguire da aggettivi come nell’esempio sopra riportat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piegare, nelle istruzioni alla scala, che bisogna rispondere alla prova velocemente sulla base della prima impressione e senza riflettere tropp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ito a scelat multipla. Risposte esatt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ck risposta esa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atto.  Come detto la Scala di Likert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è composta da una o più domande che presentano una serie di affermazioni rispetto alle quali si chiede al soggetto di esprimere il proprio grado di accordo utilizzando una scala generalmente a cinque intervalli di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ck risposta erra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ttenzione. La risposta selezionata non è corret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k risposta non fornit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me detto la Scala di Likert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è composta da una o più domande che presentano una serie di affermazioni rispetto alle quali si chiede al soggetto di esprimere il proprio grado di accordo utilizzando una scala generalmente a cinque intervalli di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mmagin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agine 730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Nota programmatore pop up su cautele metodologi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 del pop up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hiarire l’argomento generale del colloquio, insieme agli obiettivi e agli scopi. La predeterminazione degli stimoli e delle risposte possibili consente al valutatore di mettere a punto una griglia, da utilizzare nel corso del colloquio, per registrare, con segni di codifica molto semplici la risposte che vengono date e comunque di poter valutare i dati raccolti con massima obiettività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vviare il discorso da una domanda generale, per dare a ogni soggetto la possibilità di impostare il colloquio nel modo che ritiene più adegua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Evitare di condizionare le risposte e di assumere comportamenti, verbali, non verbali che possano dimostrare disapprovazione o pregiudizi verso ciò che l’interlocutore sta dicendo. La strategia che si suggerisce di adottare è quella di partire da ciò che il soggetto esaminato decide di dire, nel modo che preferisce e nell’ordine di successione degli argomenti che sceglie, e solo successivamente intervenire per chiedere chiarimenti, precisazioni integrazion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Nota programmato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inventari della personalit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 tre metodi che generalmente si usano per misurare la personalità so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utodescrizioni fornite dai sogget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st e tecniche proiettive che richiedono al soggetto di descrivere o interpretare materiale verbale o vis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sservazione del comportamento, basata sulla registrazione di informazioni da parte di un osservatore esterno attraverso l’impiego di diverse tecniche di osservazione: liste di controllo, analisi dei comportamenti espressivi ec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tecniche per la misurazione degli interes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Gli interessi sono generalmente misurati tramite questionari (inventari) che utilizzano sia domande della scala di atteggiamento sia quesiti autovalutativi. Vengono utilizzati per l’orientamento scolastico-profession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grafico imamgine 730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a programmatore: quesito a scelta multipla. Risposta esatt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esat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atto. L’atteggiamento è infatti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 (ad esempio l’introduzione dell’Euro). Il fatto di mostrare una forte carica aggressiva in situazioni di stress è un tratto della personalità, il soffrire d’insonnia un disturbo (la cui origine dovrebbe essere indagata), il quoziente intellettivo è invece una capacità o facoltà psicolog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err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tenzione, l’opzione da te selezionata non è corr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non forni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cco la risposta corretta. L’atteggiamento è infatti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 (ad esempio l’introduzione dell’Euro). Il fatto di mostrare una forte carica aggressiva in situazioni di stress è un tratto della personalità, il soffrire d’insonnia un disturbo (la cui origine dovrebbe essere indagata), il quoziente intellettivo è invece una capacità o facoltà psicolog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247E-0C00-4B2E-9F58-A3762BDC4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9954-6A8A-4D48-851F-446F4818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567A-54FB-4A93-BEE8-D0EFAA80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F767-2F80-4D5C-977D-947881F1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E3B9-BE79-4312-9A0C-0DC17149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BED7-9A0A-4493-A495-E0FCEFB7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952E-1C66-4F20-A0AA-7051D405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C00C-21CB-4BAF-928E-4E47135F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81C4-48C8-43D8-A0AA-FA371480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6F7C-0FC6-4544-B5F8-78B1C19E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92A9-EEBF-4529-962D-00D5B394C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AF3D-C306-4876-ACE9-1154E7BD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845820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7620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firstslide"/>
          </p:cNvPr>
          <p:cNvSpPr/>
          <p:nvPr/>
        </p:nvSpPr>
        <p:spPr>
          <a:xfrm>
            <a:off x="3049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6477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60" y="-108000"/>
            <a:ext cx="90932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3. Tecniche e strumenti di rilev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3.7. Prove di personalità e atteggi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11840" y="349200"/>
            <a:ext cx="1799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fld id="{1556A779-80BE-4DD0-AB9D-D499613CD5DC}" type="slidenum">
              <a:rPr b="1" lang="en-US" sz="16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di 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46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47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9C68-EE5A-49A7-8446-EE2372A9066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25146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213372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2768760"/>
            <a:ext cx="4800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 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5257800"/>
            <a:ext cx="807696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 pulsante           per iniziare, o seleziona un titolo per andare direttamente all’argomento che ti interes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2311560" y="5321160"/>
            <a:ext cx="355320" cy="254160"/>
          </a:xfrm>
          <a:custGeom>
            <a:avLst/>
            <a:gdLst>
              <a:gd name="textAreaLeft" fmla="*/ 16200 w 355320"/>
              <a:gd name="textAreaRight" fmla="*/ 339120 w 355320"/>
              <a:gd name="textAreaTop" fmla="*/ 16200 h 254160"/>
              <a:gd name="textAreaBottom" fmla="*/ 237960 h 254160"/>
            </a:gdLst>
            <a:ahLst/>
            <a:rect l="textAreaLeft" t="textAreaTop" r="textAreaRight" b="textAreaBottom"/>
            <a:pathLst>
              <a:path w="30185" h="21600">
                <a:moveTo>
                  <a:pt x="0" y="0"/>
                </a:moveTo>
                <a:lnTo>
                  <a:pt x="30185" y="0"/>
                </a:lnTo>
                <a:lnTo>
                  <a:pt x="30185" y="21600"/>
                </a:lnTo>
                <a:lnTo>
                  <a:pt x="0" y="21600"/>
                </a:lnTo>
                <a:close/>
              </a:path>
              <a:path fill="lightenLess" w="30185" h="21600">
                <a:moveTo>
                  <a:pt x="0" y="0"/>
                </a:moveTo>
                <a:lnTo>
                  <a:pt x="30185" y="0"/>
                </a:lnTo>
                <a:lnTo>
                  <a:pt x="28785" y="1400"/>
                </a:lnTo>
                <a:lnTo>
                  <a:pt x="1400" y="1400"/>
                </a:lnTo>
                <a:close/>
              </a:path>
              <a:path fill="darken" w="30185" h="21600">
                <a:moveTo>
                  <a:pt x="30185" y="0"/>
                </a:moveTo>
                <a:lnTo>
                  <a:pt x="30185" y="21600"/>
                </a:lnTo>
                <a:lnTo>
                  <a:pt x="28785" y="20200"/>
                </a:lnTo>
                <a:lnTo>
                  <a:pt x="28785" y="1400"/>
                </a:lnTo>
                <a:close/>
              </a:path>
              <a:path fill="darkenLess" w="30185" h="21600">
                <a:moveTo>
                  <a:pt x="30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85" y="20200"/>
                </a:lnTo>
                <a:close/>
              </a:path>
              <a:path fill="lighten" w="30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85" h="21600">
                <a:moveTo>
                  <a:pt x="8086" y="3794"/>
                </a:moveTo>
                <a:lnTo>
                  <a:pt x="22099" y="10800"/>
                </a:lnTo>
                <a:lnTo>
                  <a:pt x="8086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78137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0" y="2133720"/>
            <a:ext cx="39625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o strumento prevalentemente utilizzato nella misura degli atteggiamenti è costituito dai differenti tipi delle cosiddett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e di atteggi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scale di atteggiamento sono costituite da un elenco di affermazioni relative a un determinato argomento o una data situazione. I soggetti sono invitati a esprimere il loro accordo o disaccordo con ciascuna delle affermazioni, Le scale di atteggiamento più diffuse sono quelle di Thurstone, Likert, Osgoo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4387680"/>
            <a:ext cx="22860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Osg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36720" y="2770200"/>
            <a:ext cx="2518560" cy="398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Thurst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73600" y="3608280"/>
            <a:ext cx="196380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Lik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3276720"/>
            <a:ext cx="7162920" cy="22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371600"/>
            <a:ext cx="83059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Thurst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consiste in un elenco di affermazioni che esprimono una gamma di opinioni realative al’oggetto dell’atteggiamento: un fatto, una situaizone, una person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affermazioni devono rappresentare le opzioni possibili, dall’atteggiamento più favorevole a quello meno favorevo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mpito dei soggetti è quello di elencare le affermazioni con le quali si è in accordo o in disaccor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320" y="958680"/>
            <a:ext cx="2666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Thurst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49240" y="3630600"/>
            <a:ext cx="41799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I più vecchi devono farsi rispettare dai più giov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Se necessario i più vecchi possono picchiare i più piccoli per farsi obbed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I più vecchi devono sacrificarsi per aiutare i più giuov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12720" y="335916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62280" y="3352680"/>
            <a:ext cx="14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n 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24480" y="34290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4920" y="1447920"/>
            <a:ext cx="83818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Likert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o metodo dei punteggi sommati è statat proposta per la prima volta intorno agli anni trenta (Likert 1932). Essa consente, meglio do quella di Thurstone di rilevare l’intensità di un atteggiamento e risulta essere oggi la procedura più utilizzata nella rilevazione degli atteggia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domande che compongono questa scala presentano una serie di affermazioni rispetto alle quali si chiede al soggetto di esprimere il proprio grado di accordo utilizzando una scala generalmente a cinque intervalli di rispos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Lik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3505320"/>
            <a:ext cx="8076960" cy="2209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3965400"/>
            <a:ext cx="2209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lcuni insegnanti sanno coinvolgere gli studenti nelle loro lezion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i insegnanti dovrebbero essere pagati di pi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24560" y="3521160"/>
            <a:ext cx="103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75360" y="35812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isaccor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1952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93400" y="358128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46200" y="3581280"/>
            <a:ext cx="79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n 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72000" y="3505320"/>
            <a:ext cx="114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is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1992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52280" y="1442880"/>
            <a:ext cx="861084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Osgood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detta anche ‘differenziale semantico’ è stata elaborata, intornoagli anni ’50 da Osgood, Suci e Tanembaum. Obiettivo di questo strumento è quello di rilevare il grado di tensione emotiva, positiva o negativa, verso un dato concetto o termi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scala può essere costruita utilizzando un qualunque tipo di coppie di aggettivi bipolari: sia aderenti alla realtà dell’oggetto da valutare, sia indipendenti dalla realtà dell’oggetto (nel senso che sono oggettivi che solitamente non si applicano all’oggetto da valutar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Osg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47920" y="3276720"/>
            <a:ext cx="6553080" cy="243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3965400"/>
            <a:ext cx="99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c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u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ent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309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309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388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881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881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960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453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453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532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265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265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344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837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837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916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409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409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488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981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981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060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72200" y="3965400"/>
            <a:ext cx="99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ffic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rgi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00400" y="335268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alutazione della form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533412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empio di differenziale semantico con aggettivi aderenti alla realtà dell’ogget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78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588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81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86800" y="5835600"/>
            <a:ext cx="429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Tahoma"/>
              </a:rPr>
              <a:t>Fai clic qui per avere maggiori inform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33520" y="1600200"/>
            <a:ext cx="7759440" cy="337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 tipo di scala è quella rappresenta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 prove ogget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95280" y="4114800"/>
            <a:ext cx="66294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di Thur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 di Lik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 di OSsg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1040" y="553068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leziona le risposte di tua scelta e fai clic su ‘Conferm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2209680"/>
            <a:ext cx="8076960" cy="1600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267012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livello di interesse al corso da parte tua è st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68560" y="2225520"/>
            <a:ext cx="74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06200" y="22860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73760" y="228600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0040" y="228600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91240" y="2209680"/>
            <a:ext cx="7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819520" y="2286000"/>
            <a:ext cx="4419360" cy="1523880"/>
            <a:chOff x="2819520" y="2286000"/>
            <a:chExt cx="4419360" cy="1523880"/>
          </a:xfrm>
        </p:grpSpPr>
        <p:sp>
          <p:nvSpPr>
            <p:cNvPr id="274" name=""/>
            <p:cNvSpPr/>
            <p:nvPr/>
          </p:nvSpPr>
          <p:spPr>
            <a:xfrm>
              <a:off x="388620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19520" y="2286000"/>
              <a:ext cx="0" cy="14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992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3888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04920" y="914400"/>
            <a:ext cx="12952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1447920"/>
            <a:ext cx="7696080" cy="44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er le ricerche riguardanti la misurazione e lo studio della psiche umana, del carattere, delle intenzioni e dell’intelligenza degli individui sono state costruite appositi strumenti di valutazione e  misura tra che possiamo classificare in due grandi categori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personalità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atteggia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sono costituite in gran parte da test di varia natura in particola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intelligenza o abilità gene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attitudine (o attitudinal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personal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a misura degli atteggiamenti avviene utilizzando le cosidette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scale di atteggiamento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scale di atteggiamento sono costituite da un elenco di affermazioni relative a un determinato argomento o una data situazione. I soggetti sono invitati a esprimere il loro accordo o disaccordo con ciascuna delle affermazioni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scale di atteggiamento più diffuse sono quelle di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Thur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Lik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Osgoo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029200" y="1600200"/>
            <a:ext cx="396252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misurazione e lo studio della psiche umana, del carattere, delle intenzioni e dell’intelligenza degli individui ha sempre affascinato i ricercatori nel campo dell’educazione della formazione e della psicolog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questo tipo di ricerche sono state costruite appositi strumenti di valutazione e  misura tra che possiamo classificare in due grandi categori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ve di atteggi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990720"/>
            <a:ext cx="1523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trodu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iStock_000000212340_1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457200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0" y="2895480"/>
            <a:ext cx="434340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no infatti costituite in gran parte da test di varia natura. Tra i principali tipi di test analizzerem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intelligenza o abilità gener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attitudine (o attitudinal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320" y="958680"/>
            <a:ext cx="28191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 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73119" descr=""/>
          <p:cNvPicPr/>
          <p:nvPr/>
        </p:nvPicPr>
        <p:blipFill>
          <a:blip r:embed="rId1"/>
          <a:stretch/>
        </p:blipFill>
        <p:spPr>
          <a:xfrm>
            <a:off x="685800" y="1949400"/>
            <a:ext cx="2717640" cy="3721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590920" y="1371600"/>
            <a:ext cx="2666880" cy="1371600"/>
          </a:xfrm>
          <a:prstGeom prst="wedgeRectCallout">
            <a:avLst>
              <a:gd name="adj1" fmla="val -49462"/>
              <a:gd name="adj2" fmla="val 991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diamo ora quali sono le principali tipologie prove di personalità in relazione alle funzioni che essi intendono assolv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0" y="1482840"/>
            <a:ext cx="42670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st di intelligenz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isurano abilità intellettive apprese senza un insegnamento specifico, come ad esempio, la capacità logica, l’intuizione, le correlazioni tra simboli numeri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ientrano in questo tipo di test: prove di abilità di attenzione, prove di abilità percettive, prove di abilità di memoria, prove di abilità linguistica, prove di abilità di ragionamento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neralmente questi test danno luogo a un unico punteggio, ossia esprimono un quoziente di intelligenza (QI), che indica il livello intellettuale totale di un soggetto relativamente alla prestazione ha quello stesso test di un gruppo confrontab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958680"/>
            <a:ext cx="2590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 test di  intellige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19000" y="1600200"/>
            <a:ext cx="3219480" cy="4108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04920" y="4267080"/>
            <a:ext cx="2286000" cy="838440"/>
          </a:xfrm>
          <a:prstGeom prst="wedgeRectCallout">
            <a:avLst>
              <a:gd name="adj1" fmla="val 32916"/>
              <a:gd name="adj2" fmla="val -9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dico G, F, M, A, quale sarà la prossima letter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320" y="958680"/>
            <a:ext cx="2666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 test attitudin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8320" y="1600200"/>
            <a:ext cx="4267080" cy="46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est di attitudine o attitudinal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sono basati sulle concezioni fattoriali dell’intelligenza e forniscono punteggi relativi alle diverse attitudini misurate in un soggett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differenza dei test di intelligenza che misurano una funzione ‘astratta’, queste prove trattano abilità più concrete (attitudini musicali, artistiche, meccaniche ec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ono utilizzati nella selezione del personale, per l’ammissione a corsi di addestramento, per l’orientamento professionale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si servono infatti a verificare le attitudini in relazione a mansioni e a ruoli cui saranno destinati i soggetti selezionati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73093" descr=""/>
          <p:cNvPicPr/>
          <p:nvPr/>
        </p:nvPicPr>
        <p:blipFill>
          <a:blip r:embed="rId1"/>
          <a:stretch/>
        </p:blipFill>
        <p:spPr>
          <a:xfrm>
            <a:off x="838080" y="1835280"/>
            <a:ext cx="2884680" cy="39495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523880" y="4648320"/>
            <a:ext cx="2743200" cy="1218960"/>
          </a:xfrm>
          <a:prstGeom prst="wedgeRectCallout">
            <a:avLst>
              <a:gd name="adj1" fmla="val -6597"/>
              <a:gd name="adj2" fmla="val -119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l test risulta una buona propensione nella gestione di progetti, ha mai avuto esperienze lavorative di questo tip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6320" y="958680"/>
            <a:ext cx="23619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 test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600200"/>
            <a:ext cx="8458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est di personalità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efiniti anche test non cognitivi, servono a valutare tutti quegli aspetti o tratti della personalità del soggetto, distinti dalle abilità cognitive come la motivazione, i sentimenti, i rapporti interpersona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cco alcune variabili che possono essere misurate con i test dlla personalità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5276880"/>
            <a:ext cx="11514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3048120"/>
            <a:ext cx="3124080" cy="946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aratter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si riferisce alla misura in cui un soggetto si adegua a criteri largamente accettati di comportamento etico o moral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3048120"/>
            <a:ext cx="3124080" cy="1159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Tratti sociali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: ossia il comportamento di un individuao nei confronti di altre persone (timidezza, malinconia, umorisomo ec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4267080"/>
            <a:ext cx="2895480" cy="946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Adattamento situazional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: aspetti oggettivamente buoni o cattivi dell’ambiente familiare o scolastico di un ragaz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16000" y="4724280"/>
            <a:ext cx="1937880" cy="33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lattia 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48640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eneralmente i test di personalità sono distiinti i tre categorie principali: </a:t>
            </a:r>
            <a:r>
              <a:rPr b="0" lang="it-IT" sz="1600" spc="-1" strike="noStrike" u="sng">
                <a:solidFill>
                  <a:srgbClr val="0000ff"/>
                </a:solidFill>
                <a:uFillTx/>
                <a:latin typeface="Tahoma"/>
              </a:rPr>
              <a:t>inventari della personalità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it-IT" sz="1600" spc="-1" strike="noStrike" u="sng">
                <a:solidFill>
                  <a:srgbClr val="0000ff"/>
                </a:solidFill>
                <a:uFillTx/>
                <a:latin typeface="Tahoma"/>
              </a:rPr>
              <a:t>tecniche per la misurazione degli interess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ve di atteggia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0" y="1833480"/>
            <a:ext cx="426708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o strumento privilegiato per la misurazione delle variabili concernenti al dimensione affettivo esperenziale è rappresentato dall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ve di atteggia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er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tteggi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intendiam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concetto di atteggiamento non è solo caratterizzato dalla direzione a favore o sfavore di un certo oggetto ma anche dal grado di accordo o disaccordo definito come valen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73063" descr=""/>
          <p:cNvPicPr/>
          <p:nvPr/>
        </p:nvPicPr>
        <p:blipFill>
          <a:blip r:embed="rId1"/>
          <a:srcRect l="0" t="0" r="0" b="35904"/>
          <a:stretch/>
        </p:blipFill>
        <p:spPr>
          <a:xfrm>
            <a:off x="457200" y="2597040"/>
            <a:ext cx="3552840" cy="31179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438280" y="1600200"/>
            <a:ext cx="2133720" cy="1523880"/>
          </a:xfrm>
          <a:prstGeom prst="cloudCallout">
            <a:avLst>
              <a:gd name="adj1" fmla="val -44421"/>
              <a:gd name="adj2" fmla="val 512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glio allacciare la cintura… non si sa mai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447920" y="2836800"/>
            <a:ext cx="624816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mostra una forte carica aggressiva in situazioni di st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è favorevole all’introduzione dell’Eu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soffre di inson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ha un elevato quoziente intellet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320" y="958680"/>
            <a:ext cx="1981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Eserciz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1600200"/>
            <a:ext cx="7759440" cy="580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tendo dalla definizione di atteggiamento, quale fra queste è la descrizione di un atteggiamento di un individuo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51040" y="548640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leziona la risposta di tua scelta e fai clic su ‘Conferm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48320" y="2133720"/>
            <a:ext cx="4190760" cy="32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Misurare e quantificare gli atteggiamenti, con uno specifico strumento, non è però un compito facile. È infatti difficile rendere ‘oggettivi’ stati mentali soggettivi.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ncora più difficile se si tratta di misurare attegiamenti su temi scotta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nza contare che talvolta l’atteggiamento non coincide con il comportamento: ad esempio non ritengo la carta di credito uno strumento di pagamento sicuro ma per alcuni acquisti sono costretto ad usarl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78145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213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1T18:57:48Z</dcterms:created>
  <dc:creator/>
  <dc:description/>
  <cp:keywords/>
  <dc:language>en-US</dc:language>
  <cp:lastModifiedBy>Università degli studi di Roma "La Sapienza"</cp:lastModifiedBy>
  <cp:lastPrinted>2000-05-14T18:13:16Z</cp:lastPrinted>
  <dcterms:modified xsi:type="dcterms:W3CDTF">2009-06-30T14:55:11Z</dcterms:modified>
  <cp:revision>320</cp:revision>
  <dc:subject>Presentazione piero</dc:subject>
  <dc:title>Presentazione forum P.A. del 9/05/96</dc:title>
</cp:coreProperties>
</file>